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2.png" ContentType="image/png"/>
  <Override PartName="/ppt/media/image40.jpeg" ContentType="image/jpeg"/>
  <Override PartName="/ppt/media/image44.png" ContentType="image/png"/>
  <Override PartName="/ppt/media/image42.png" ContentType="image/png"/>
  <Override PartName="/ppt/media/image43.png" ContentType="image/png"/>
  <Override PartName="/ppt/media/image33.png" ContentType="image/png"/>
  <Override PartName="/ppt/media/image38.png" ContentType="image/png"/>
  <Override PartName="/ppt/media/image41.wmf" ContentType="image/x-wmf"/>
  <Override PartName="/ppt/media/image8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036D-501F-474F-BB6D-9D880077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A10-8514-46B6-AE10-11E5ED8E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A6DC-2CF0-4033-9D0A-11FB6BEA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64DD-E73D-48FC-B170-D3145164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984D-60F9-4435-A30B-85620519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8781-EFF5-4C1F-A509-024DE1A9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FF46-8C1F-4E8F-94AC-7DE6A949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524D-9AEE-430C-AEA3-A5805495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F99B-52DE-4F9C-A8F0-FDF01681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456840"/>
            <a:ext cx="60958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65DE-985F-40AE-89B2-5FB7117B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EA3E-7843-44CE-9F41-376D23BB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EA82-4029-491A-8957-1AD274BF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6478-83CE-4DF1-959A-A4D3161D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33CF-EE4F-4DF4-82C7-1F7BD272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963C-28B6-4C4B-8245-DF801062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12FB-4AD6-441D-9479-681C9BE0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3F47-567E-4E79-8496-8A5CE58C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7D0E-D32D-4D6C-AA0D-725B0BEC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DB8-3A3E-43B7-93EF-278586DA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6CA-06E8-429A-A89B-63AD8E1B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456840"/>
            <a:ext cx="60958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12F-ADA4-4FB5-9DEE-FA9DFD37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6E8-CC12-4D60-97E5-86D83C79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1AEC-2BCB-473C-BDC8-B6390E12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9C4A-CCE2-478C-86AD-6F1ECDE3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290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CAE5-7031-410E-890F-DD1168DF8A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4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2F74-458C-4519-A215-C0CAC8E478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33.png"/><Relationship Id="rId3" Type="http://schemas.openxmlformats.org/officeDocument/2006/relationships/slide" Target="slide21.xml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4.png"/><Relationship Id="rId3" Type="http://schemas.openxmlformats.org/officeDocument/2006/relationships/image" Target="../media/image37.png"/><Relationship Id="rId4" Type="http://schemas.openxmlformats.org/officeDocument/2006/relationships/slide" Target="slide20.xml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0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7.png"/><Relationship Id="rId3" Type="http://schemas.openxmlformats.org/officeDocument/2006/relationships/image" Target="../media/image1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est.xls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4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1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352680" y="4190760"/>
            <a:ext cx="5029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Jak ograniczyć ilość wypadków na drodze?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289584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800600" y="228600"/>
            <a:ext cx="4114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9999"/>
                </a:solidFill>
                <a:latin typeface="Times New Roman"/>
              </a:rPr>
              <a:t>Gimnazjum Dobiegniew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9999"/>
                </a:solidFill>
                <a:latin typeface="Times New Roman"/>
              </a:rPr>
              <a:t>Mariusz Wiche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6235560"/>
            <a:ext cx="25146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Kliknij aby rozpocząć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99840" y="5335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Narrow"/>
              </a:rPr>
              <a:t>Istnieją jeszcze inne znaki ustalające kolejność przejazdu przez skrzyżowania oznakowane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16002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Są to :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69" name="A-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95480" y="1828800"/>
            <a:ext cx="1143000" cy="1028880"/>
          </a:xfrm>
          <a:prstGeom prst="rect">
            <a:avLst/>
          </a:prstGeom>
          <a:ln w="9360">
            <a:solidFill>
              <a:srgbClr val="0100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4343400" y="2133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Skrzyżowanie dróg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3429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Kto ma pierwszeństwo na takim skrzyżowaniu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41148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Masz rację ten kto nadjeżdża od prawej strony lub ma prawą stronę wolną.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>
            <a:hlinkClick r:id="rId3" action="ppaction://hlinksldjump"/>
          </p:cNvPr>
          <p:cNvSpPr/>
          <p:nvPr/>
        </p:nvSpPr>
        <p:spPr>
          <a:xfrm>
            <a:off x="4038480" y="571500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1349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998" h="21600">
                <a:moveTo>
                  <a:pt x="1349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998" h="21600">
                <a:moveTo>
                  <a:pt x="10923" y="8224"/>
                </a:moveTo>
                <a:lnTo>
                  <a:pt x="14787" y="8224"/>
                </a:lnTo>
                <a:lnTo>
                  <a:pt x="14787" y="15221"/>
                </a:lnTo>
                <a:lnTo>
                  <a:pt x="16075" y="15221"/>
                </a:lnTo>
                <a:lnTo>
                  <a:pt x="16075" y="16144"/>
                </a:lnTo>
                <a:lnTo>
                  <a:pt x="10923" y="16144"/>
                </a:lnTo>
                <a:lnTo>
                  <a:pt x="10923" y="15221"/>
                </a:lnTo>
                <a:lnTo>
                  <a:pt x="12211" y="15221"/>
                </a:lnTo>
                <a:lnTo>
                  <a:pt x="12211" y="9129"/>
                </a:lnTo>
                <a:lnTo>
                  <a:pt x="10923" y="9129"/>
                </a:lnTo>
                <a:close/>
              </a:path>
            </a:pathLst>
          </a:custGeom>
          <a:gradFill rotWithShape="0">
            <a:gsLst>
              <a:gs pos="0">
                <a:srgbClr val="5e6c75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5281920"/>
            <a:ext cx="25905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 Narrow"/>
              </a:rPr>
              <a:t>Przykładowe skrzyżowanie dróg równorzędnyc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72400" y="602280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6238800"/>
            <a:ext cx="1828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76360" y="609480"/>
            <a:ext cx="3276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 Narrow"/>
              </a:rPr>
              <a:t>A oto znak: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78" name="A-6C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1143000" cy="1028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523880" y="1752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Skrzyżowanie drogi głównej z podporządkowaną występującą po lewej stronie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3429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Kto ma pierwszeństwo na takim skrzyżowaniu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44956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Ten kto znajduje się na drodze z pierwszeństwem przejazdu – oznaczonej grubszą linią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72400" y="602280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631512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4267080" y="56386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6" h="21600">
                <a:moveTo>
                  <a:pt x="1403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8076" h="21600">
                <a:moveTo>
                  <a:pt x="1403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8076" h="21600">
                <a:moveTo>
                  <a:pt x="11462" y="8224"/>
                </a:moveTo>
                <a:lnTo>
                  <a:pt x="15326" y="8224"/>
                </a:lnTo>
                <a:lnTo>
                  <a:pt x="15326" y="15221"/>
                </a:lnTo>
                <a:lnTo>
                  <a:pt x="16614" y="15221"/>
                </a:lnTo>
                <a:lnTo>
                  <a:pt x="16614" y="16144"/>
                </a:lnTo>
                <a:lnTo>
                  <a:pt x="11462" y="16144"/>
                </a:lnTo>
                <a:lnTo>
                  <a:pt x="11462" y="15221"/>
                </a:lnTo>
                <a:lnTo>
                  <a:pt x="12750" y="15221"/>
                </a:lnTo>
                <a:lnTo>
                  <a:pt x="12750" y="9129"/>
                </a:lnTo>
                <a:lnTo>
                  <a:pt x="11462" y="9129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Inny z bardzo ważnych znaków to: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86" name="D-2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1143000" cy="1131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666880" y="1905120"/>
            <a:ext cx="49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Jest to znak końca drogi                      z pierwszeństwem przejazdu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34290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Co oznacza taki znak drogowy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4724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Macie rację – za chwilę wjedziemy na odcinek jezdni będący drogą podporządkowaną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772400" y="602280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631512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 Narrow"/>
              </a:rPr>
              <a:t>Jeszcze innym znakiem z tej grupy jest: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93" name="A-6A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1143000" cy="1028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743200" y="190512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Skrzyżowanie drogi głównej </a:t>
            </a:r>
            <a:br>
              <a:rPr sz="2800"/>
            </a:b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z podporządkowanymi występującymi po obu stronach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35812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Co mogę powiedzieć widząc taki znak podczas jazdy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48006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Macie rację widząc go mam pierwszeństwo przejazdu </a:t>
            </a:r>
            <a:br>
              <a:rPr sz="2800"/>
            </a:b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w stosunku do tych, którzy są na drodze po lewej i prawej stroni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72400" y="602280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631512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0560" y="304920"/>
            <a:ext cx="47242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Omówmy jeszcze: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00" name="T-6C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1143000" cy="1096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666880" y="1752480"/>
            <a:ext cx="5486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Times New Roman"/>
              </a:rPr>
              <a:t>Kształt drogi z pierwszeństwem przejazdu występujący ze znakami:</a:t>
            </a:r>
            <a:endParaRPr b="0" lang="en-US" sz="3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838080" y="3657600"/>
            <a:ext cx="1028880" cy="933480"/>
          </a:xfrm>
          <a:prstGeom prst="rect">
            <a:avLst/>
          </a:prstGeom>
          <a:ln w="0">
            <a:noFill/>
          </a:ln>
        </p:spPr>
      </p:pic>
      <p:pic>
        <p:nvPicPr>
          <p:cNvPr id="203" name="T-6C" descr=""/>
          <p:cNvPicPr/>
          <p:nvPr/>
        </p:nvPicPr>
        <p:blipFill>
          <a:blip r:embed="rId3"/>
          <a:stretch/>
        </p:blipFill>
        <p:spPr>
          <a:xfrm>
            <a:off x="838080" y="4648320"/>
            <a:ext cx="1143000" cy="1096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362320" y="3809880"/>
            <a:ext cx="61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Gdy widzę taki znak wiem, iż pierwszeństwo przejazdu ma ten kto jedzie z naprzeciwka lub jest po mojej lewej stronie.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>
            <a:hlinkClick r:id="rId4" action="ppaction://hlinksldjump"/>
          </p:cNvPr>
          <p:cNvSpPr/>
          <p:nvPr/>
        </p:nvSpPr>
        <p:spPr>
          <a:xfrm>
            <a:off x="4876920" y="57913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1484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9697" h="21600">
                <a:moveTo>
                  <a:pt x="1484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9697" h="21600">
                <a:moveTo>
                  <a:pt x="12272" y="8224"/>
                </a:moveTo>
                <a:lnTo>
                  <a:pt x="16137" y="8224"/>
                </a:lnTo>
                <a:lnTo>
                  <a:pt x="16137" y="15221"/>
                </a:lnTo>
                <a:lnTo>
                  <a:pt x="17425" y="15221"/>
                </a:lnTo>
                <a:lnTo>
                  <a:pt x="17425" y="16144"/>
                </a:lnTo>
                <a:lnTo>
                  <a:pt x="12272" y="16144"/>
                </a:lnTo>
                <a:lnTo>
                  <a:pt x="12272" y="15221"/>
                </a:lnTo>
                <a:lnTo>
                  <a:pt x="13560" y="15221"/>
                </a:lnTo>
                <a:lnTo>
                  <a:pt x="13560" y="9129"/>
                </a:lnTo>
                <a:lnTo>
                  <a:pt x="12272" y="9129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772400" y="602280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631512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 Narrow"/>
              </a:rPr>
              <a:t>Ustalmy kolejność przejazdu przez skrzyżowani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19112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Pierwszy pojedzie pojazd 2 i 3 równocześnie, gdyż ich tory    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jazdy nie krzyżują się.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10" name="013" descr=""/>
          <p:cNvPicPr/>
          <p:nvPr/>
        </p:nvPicPr>
        <p:blipFill>
          <a:blip r:embed="rId1"/>
          <a:stretch/>
        </p:blipFill>
        <p:spPr>
          <a:xfrm>
            <a:off x="4419720" y="1828800"/>
            <a:ext cx="4343400" cy="3962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09480" y="3962520"/>
            <a:ext cx="350532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Następnie pojedzie pojazd 1 gdyż jest na drodze podporządkowanej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72400" y="602280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631512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6108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Inne skrzyżowanie oznakowane.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15" name="012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952880" cy="4419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638680" y="1752480"/>
            <a:ext cx="32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Pierwszy pojedzie pojazd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(jest na drodze głównej po prawej stronie)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62720" y="304812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Drugi pojazd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gdyż jest na drodze głównej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4038480"/>
            <a:ext cx="3581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Trzeci pojazd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gdyż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pojazd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też będący na drodze podporządkowanej ma go po prawej stronie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38680" y="5562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Ostatni pojazd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772400" y="602280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631512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304920"/>
            <a:ext cx="3809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laczego nie wolno niszczyć znaków drogowych?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23" name="BD07366_" descr=""/>
          <p:cNvPicPr/>
          <p:nvPr/>
        </p:nvPicPr>
        <p:blipFill>
          <a:blip r:embed="rId2"/>
          <a:stretch/>
        </p:blipFill>
        <p:spPr>
          <a:xfrm>
            <a:off x="5943600" y="228600"/>
            <a:ext cx="2057400" cy="16606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28600" y="441972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naki drogowe są kosztowne – niszcząc je zabierasz pieniądze  przeznaczone na inne cele: szkoły, przedszkola, ochronę zdrowia,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19810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ez nich kierowcy nie wiedzą jaka jest kolejność przejazdu przez skrzyżowania,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47080" y="3276720"/>
            <a:ext cx="74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ie potrafią przewidzieć niebezpieczeństw na drodze,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7432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ają mniej czasu aby zareagować na niebezpieczeństwo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38862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iszcząc znak możesz niszczyć czyjeś życie i zdrowie,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56386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Niszczone jest środowisko naturalne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5639040"/>
            <a:ext cx="1371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cc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72400" y="602280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9966"/>
                </a:solidFill>
                <a:uFillTx/>
                <a:latin typeface="Arial Narrow"/>
                <a:hlinkClick r:id="rId3" action="ppaction://hlinksldjump"/>
              </a:rPr>
              <a:t>Następny slajd</a:t>
            </a:r>
            <a:r>
              <a:rPr b="0" lang="en-US" sz="2800" spc="-1" strike="noStrike" u="sng">
                <a:solidFill>
                  <a:srgbClr val="ff9966"/>
                </a:solidFill>
                <a:uFillTx/>
                <a:latin typeface="Arial Narrow"/>
                <a:hlinkClick r:id="rId4" action="ppaction://hlinksldjump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438280" y="7617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imes New Roman"/>
              </a:rPr>
              <a:t>Kształt linii określających poszczególne rodzaje dróg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6400800" y="5181480"/>
            <a:ext cx="1600200" cy="1295640"/>
          </a:xfrm>
          <a:custGeom>
            <a:avLst/>
            <a:gdLst>
              <a:gd name="textAreaLeft" fmla="*/ 83880 w 1600200"/>
              <a:gd name="textAreaRight" fmla="*/ 1516320 w 160020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6676" h="21600">
                <a:moveTo>
                  <a:pt x="0" y="0"/>
                </a:moveTo>
                <a:lnTo>
                  <a:pt x="26676" y="0"/>
                </a:lnTo>
                <a:lnTo>
                  <a:pt x="26676" y="21600"/>
                </a:lnTo>
                <a:lnTo>
                  <a:pt x="0" y="21600"/>
                </a:lnTo>
                <a:close/>
              </a:path>
              <a:path fill="lightenLess" w="26676" h="21600">
                <a:moveTo>
                  <a:pt x="0" y="0"/>
                </a:moveTo>
                <a:lnTo>
                  <a:pt x="26676" y="0"/>
                </a:lnTo>
                <a:lnTo>
                  <a:pt x="25276" y="1400"/>
                </a:lnTo>
                <a:lnTo>
                  <a:pt x="1400" y="1400"/>
                </a:lnTo>
                <a:close/>
              </a:path>
              <a:path fill="darken" w="26676" h="21600">
                <a:moveTo>
                  <a:pt x="26676" y="0"/>
                </a:moveTo>
                <a:lnTo>
                  <a:pt x="26676" y="21600"/>
                </a:lnTo>
                <a:lnTo>
                  <a:pt x="25276" y="20200"/>
                </a:lnTo>
                <a:lnTo>
                  <a:pt x="25276" y="1400"/>
                </a:lnTo>
                <a:close/>
              </a:path>
              <a:path fill="darkenLess" w="26676" h="21600">
                <a:moveTo>
                  <a:pt x="26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76" y="20200"/>
                </a:lnTo>
                <a:close/>
              </a:path>
              <a:path fill="lighten" w="26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76" h="21600">
                <a:moveTo>
                  <a:pt x="13338" y="3837"/>
                </a:moveTo>
                <a:lnTo>
                  <a:pt x="15914" y="6448"/>
                </a:lnTo>
                <a:lnTo>
                  <a:pt x="15914" y="4707"/>
                </a:lnTo>
                <a:lnTo>
                  <a:pt x="17690" y="4707"/>
                </a:lnTo>
                <a:lnTo>
                  <a:pt x="17690" y="8224"/>
                </a:lnTo>
                <a:lnTo>
                  <a:pt x="20301" y="10800"/>
                </a:lnTo>
                <a:lnTo>
                  <a:pt x="18647" y="10800"/>
                </a:lnTo>
                <a:lnTo>
                  <a:pt x="18647" y="17989"/>
                </a:lnTo>
                <a:lnTo>
                  <a:pt x="8029" y="17989"/>
                </a:lnTo>
                <a:lnTo>
                  <a:pt x="8029" y="10800"/>
                </a:lnTo>
                <a:lnTo>
                  <a:pt x="6375" y="10800"/>
                </a:lnTo>
                <a:close/>
              </a:path>
              <a:path fill="darkenLess" w="26676" h="21600">
                <a:moveTo>
                  <a:pt x="15914" y="6448"/>
                </a:moveTo>
                <a:lnTo>
                  <a:pt x="15914" y="4707"/>
                </a:lnTo>
                <a:lnTo>
                  <a:pt x="17690" y="4707"/>
                </a:lnTo>
                <a:lnTo>
                  <a:pt x="17690" y="8224"/>
                </a:lnTo>
                <a:close/>
              </a:path>
              <a:path fill="darkenLess" w="26676" h="21600">
                <a:moveTo>
                  <a:pt x="12415" y="14299"/>
                </a:moveTo>
                <a:lnTo>
                  <a:pt x="14261" y="14299"/>
                </a:lnTo>
                <a:lnTo>
                  <a:pt x="14261" y="17989"/>
                </a:lnTo>
                <a:lnTo>
                  <a:pt x="18647" y="17989"/>
                </a:lnTo>
                <a:lnTo>
                  <a:pt x="18647" y="10800"/>
                </a:lnTo>
                <a:lnTo>
                  <a:pt x="8029" y="10800"/>
                </a:lnTo>
                <a:lnTo>
                  <a:pt x="8029" y="17989"/>
                </a:lnTo>
                <a:lnTo>
                  <a:pt x="12415" y="17989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752480" y="2133720"/>
          <a:ext cx="6656400" cy="299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2133720"/>
                    <a:ext cx="665640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228600" y="594360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</a:rPr>
              <a:t>Podział znaków drogowych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"/>
          <p:cNvSpPr/>
          <p:nvPr/>
        </p:nvSpPr>
        <p:spPr>
          <a:xfrm>
            <a:off x="1981080" y="1676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nakazu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14600" y="2743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zakazu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05320" y="38862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ostrzegawcz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49528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informacyjn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419720" y="14479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629400" y="3657600"/>
            <a:ext cx="952560" cy="9334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7772400" y="4648320"/>
            <a:ext cx="952560" cy="115236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4724280" y="5562720"/>
            <a:ext cx="838440" cy="76176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73" h="21600">
                <a:moveTo>
                  <a:pt x="0" y="0"/>
                </a:moveTo>
                <a:lnTo>
                  <a:pt x="23773" y="0"/>
                </a:lnTo>
                <a:lnTo>
                  <a:pt x="23773" y="21600"/>
                </a:lnTo>
                <a:lnTo>
                  <a:pt x="0" y="21600"/>
                </a:lnTo>
                <a:close/>
              </a:path>
              <a:path fill="lightenLess" w="23773" h="21600">
                <a:moveTo>
                  <a:pt x="0" y="0"/>
                </a:moveTo>
                <a:lnTo>
                  <a:pt x="23773" y="0"/>
                </a:lnTo>
                <a:lnTo>
                  <a:pt x="22373" y="1400"/>
                </a:lnTo>
                <a:lnTo>
                  <a:pt x="1400" y="1400"/>
                </a:lnTo>
                <a:close/>
              </a:path>
              <a:path fill="darken" w="23773" h="21600">
                <a:moveTo>
                  <a:pt x="23773" y="0"/>
                </a:moveTo>
                <a:lnTo>
                  <a:pt x="23773" y="21600"/>
                </a:lnTo>
                <a:lnTo>
                  <a:pt x="22373" y="20200"/>
                </a:lnTo>
                <a:lnTo>
                  <a:pt x="22373" y="1400"/>
                </a:lnTo>
                <a:close/>
              </a:path>
              <a:path fill="darkenLess" w="23773" h="21600">
                <a:moveTo>
                  <a:pt x="237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73" y="20200"/>
                </a:lnTo>
                <a:close/>
              </a:path>
              <a:path fill="lighten" w="237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73" h="21600">
                <a:moveTo>
                  <a:pt x="4880" y="7493"/>
                </a:moveTo>
                <a:lnTo>
                  <a:pt x="8388" y="7493"/>
                </a:lnTo>
                <a:lnTo>
                  <a:pt x="8388" y="12828"/>
                </a:lnTo>
                <a:cubicBezTo>
                  <a:pt x="8388" y="13751"/>
                  <a:pt x="9188" y="14482"/>
                  <a:pt x="10224" y="14482"/>
                </a:cubicBezTo>
                <a:lnTo>
                  <a:pt x="11887" y="14482"/>
                </a:lnTo>
                <a:cubicBezTo>
                  <a:pt x="12922" y="14482"/>
                  <a:pt x="13723" y="13751"/>
                  <a:pt x="13723" y="12828"/>
                </a:cubicBezTo>
                <a:lnTo>
                  <a:pt x="13723" y="7493"/>
                </a:lnTo>
                <a:lnTo>
                  <a:pt x="11887" y="7493"/>
                </a:lnTo>
                <a:lnTo>
                  <a:pt x="15394" y="3985"/>
                </a:lnTo>
                <a:lnTo>
                  <a:pt x="19067" y="7493"/>
                </a:lnTo>
                <a:lnTo>
                  <a:pt x="17231" y="7493"/>
                </a:lnTo>
                <a:lnTo>
                  <a:pt x="17231" y="12828"/>
                </a:lnTo>
                <a:cubicBezTo>
                  <a:pt x="17231" y="15596"/>
                  <a:pt x="14654" y="18155"/>
                  <a:pt x="11887" y="18155"/>
                </a:cubicBezTo>
                <a:lnTo>
                  <a:pt x="10224" y="18155"/>
                </a:lnTo>
                <a:cubicBezTo>
                  <a:pt x="7456" y="18155"/>
                  <a:pt x="4880" y="15596"/>
                  <a:pt x="4880" y="1282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641920"/>
            <a:ext cx="1295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 Narrow"/>
              </a:rPr>
              <a:t>Powrót do poprzedniego slajdu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336699"/>
                </a:solidFill>
                <a:latin typeface="Times New Roman"/>
              </a:rPr>
              <a:t>Na którym skrzyżowaniu przedstawionym na rysunkach zaistnieje większa możliwość powstania wypadku?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981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krzyżowanie 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1981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krzyżowanie 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2" name="bez%20znaków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3822840" cy="3200400"/>
          </a:xfrm>
          <a:prstGeom prst="rect">
            <a:avLst/>
          </a:prstGeom>
          <a:ln w="0">
            <a:noFill/>
          </a:ln>
        </p:spPr>
      </p:pic>
      <p:pic>
        <p:nvPicPr>
          <p:cNvPr id="93" name="ze%20znakami" descr=""/>
          <p:cNvPicPr/>
          <p:nvPr/>
        </p:nvPicPr>
        <p:blipFill>
          <a:blip r:embed="rId2"/>
          <a:stretch/>
        </p:blipFill>
        <p:spPr>
          <a:xfrm>
            <a:off x="5181480" y="2743200"/>
            <a:ext cx="3505320" cy="3200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38080" y="6238800"/>
            <a:ext cx="2210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609588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33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 Narrow"/>
              </a:rPr>
              <a:t>Znak kształt drogi z pierwszeństwem przejazdu może się łączyć ze znakami: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066680" y="3886200"/>
            <a:ext cx="1028880" cy="933480"/>
          </a:xfrm>
          <a:prstGeom prst="rect">
            <a:avLst/>
          </a:prstGeom>
          <a:ln w="0">
            <a:noFill/>
          </a:ln>
        </p:spPr>
      </p:pic>
      <p:pic>
        <p:nvPicPr>
          <p:cNvPr id="250" name="T-6C" descr=""/>
          <p:cNvPicPr/>
          <p:nvPr/>
        </p:nvPicPr>
        <p:blipFill>
          <a:blip r:embed="rId2"/>
          <a:stretch/>
        </p:blipFill>
        <p:spPr>
          <a:xfrm>
            <a:off x="1066680" y="4800600"/>
            <a:ext cx="1143000" cy="1096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1066680" y="1828800"/>
            <a:ext cx="952560" cy="9428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1066680" y="2819520"/>
            <a:ext cx="952560" cy="9144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895480" y="2513880"/>
            <a:ext cx="510552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Droga z pierwszeństwem przejazdu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8120" y="4647240"/>
            <a:ext cx="441936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Ustąp pierwszeństwa przejazdu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4419720" y="56386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6" h="21600">
                <a:moveTo>
                  <a:pt x="4772" y="7493"/>
                </a:moveTo>
                <a:lnTo>
                  <a:pt x="8279" y="7493"/>
                </a:lnTo>
                <a:lnTo>
                  <a:pt x="8279" y="12828"/>
                </a:lnTo>
                <a:cubicBezTo>
                  <a:pt x="8279" y="13751"/>
                  <a:pt x="9080" y="14482"/>
                  <a:pt x="10116" y="14482"/>
                </a:cubicBezTo>
                <a:lnTo>
                  <a:pt x="11778" y="14482"/>
                </a:lnTo>
                <a:cubicBezTo>
                  <a:pt x="12814" y="14482"/>
                  <a:pt x="13615" y="13751"/>
                  <a:pt x="13615" y="12828"/>
                </a:cubicBezTo>
                <a:lnTo>
                  <a:pt x="13615" y="7493"/>
                </a:lnTo>
                <a:lnTo>
                  <a:pt x="11778" y="7493"/>
                </a:lnTo>
                <a:lnTo>
                  <a:pt x="15286" y="3985"/>
                </a:lnTo>
                <a:lnTo>
                  <a:pt x="18959" y="7493"/>
                </a:lnTo>
                <a:lnTo>
                  <a:pt x="17122" y="7493"/>
                </a:lnTo>
                <a:lnTo>
                  <a:pt x="17122" y="12828"/>
                </a:lnTo>
                <a:cubicBezTo>
                  <a:pt x="17122" y="15596"/>
                  <a:pt x="14546" y="18155"/>
                  <a:pt x="11778" y="18155"/>
                </a:cubicBezTo>
                <a:lnTo>
                  <a:pt x="10116" y="18155"/>
                </a:lnTo>
                <a:cubicBezTo>
                  <a:pt x="7348" y="18155"/>
                  <a:pt x="4772" y="15596"/>
                  <a:pt x="4772" y="12828"/>
                </a:cubicBezTo>
                <a:close/>
              </a:path>
            </a:pathLst>
          </a:custGeom>
          <a:solidFill>
            <a:srgbClr val="33cccc"/>
          </a:solidFill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5794200"/>
            <a:ext cx="14479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 Narrow"/>
              </a:rPr>
              <a:t>Powrót do poprzedniego slajdu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99"/>
                </a:solidFill>
                <a:latin typeface="Arial Narrow"/>
              </a:rPr>
              <a:t>Zapamiętaj!</a:t>
            </a:r>
            <a:br>
              <a:rPr sz="2800"/>
            </a:br>
            <a:r>
              <a:rPr b="1" lang="pl-PL" sz="2800" spc="-1" strike="noStrike">
                <a:solidFill>
                  <a:srgbClr val="009999"/>
                </a:solidFill>
                <a:latin typeface="Arial Narrow"/>
              </a:rPr>
              <a:t>Na skrzyżowaniu dróg równorzędnych pierwszeństwo przejazdu posiadają pojazdy nadjeżdżające z prawej strony innych uczestników ruchu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39625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5755" y="7493"/>
                </a:moveTo>
                <a:lnTo>
                  <a:pt x="9263" y="7493"/>
                </a:lnTo>
                <a:lnTo>
                  <a:pt x="9263" y="12828"/>
                </a:lnTo>
                <a:cubicBezTo>
                  <a:pt x="9263" y="13751"/>
                  <a:pt x="10063" y="14482"/>
                  <a:pt x="11099" y="14482"/>
                </a:cubicBezTo>
                <a:lnTo>
                  <a:pt x="12762" y="14482"/>
                </a:lnTo>
                <a:cubicBezTo>
                  <a:pt x="13797" y="14482"/>
                  <a:pt x="14598" y="13751"/>
                  <a:pt x="14598" y="12828"/>
                </a:cubicBezTo>
                <a:lnTo>
                  <a:pt x="14598" y="7493"/>
                </a:lnTo>
                <a:lnTo>
                  <a:pt x="12762" y="7493"/>
                </a:lnTo>
                <a:lnTo>
                  <a:pt x="16269" y="3985"/>
                </a:lnTo>
                <a:lnTo>
                  <a:pt x="19942" y="7493"/>
                </a:lnTo>
                <a:lnTo>
                  <a:pt x="18106" y="7493"/>
                </a:lnTo>
                <a:lnTo>
                  <a:pt x="18106" y="12828"/>
                </a:lnTo>
                <a:cubicBezTo>
                  <a:pt x="18106" y="15596"/>
                  <a:pt x="15529" y="18155"/>
                  <a:pt x="12762" y="18155"/>
                </a:cubicBezTo>
                <a:lnTo>
                  <a:pt x="11099" y="18155"/>
                </a:lnTo>
                <a:cubicBezTo>
                  <a:pt x="8331" y="18155"/>
                  <a:pt x="5755" y="15596"/>
                  <a:pt x="5755" y="12828"/>
                </a:cubicBezTo>
                <a:close/>
              </a:path>
            </a:pathLst>
          </a:cu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9" name="skrzyzowanie%20równorzędne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2705400" cy="27813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038480" y="2285280"/>
            <a:ext cx="449604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Jaka będzie kolejność przejazdu?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2818080"/>
            <a:ext cx="4191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 Narrow"/>
              </a:rPr>
              <a:t>Pierwszy pojedzie rowerzysta A gdyż ma prawą stronę wolną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62520" y="3579840"/>
            <a:ext cx="3886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 Narrow"/>
              </a:rPr>
              <a:t>Jako drugi pojedzie pojazd B gdyż jego prawa strona po odjeździe rowerzysty będzie wolna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29200" y="4570920"/>
            <a:ext cx="3429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 Narrow"/>
              </a:rPr>
              <a:t>Trzeci przejeżdża pojazd C, który pozostał sam na skrzyżowaniu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5792040"/>
            <a:ext cx="1981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 Narrow"/>
              </a:rPr>
              <a:t>Kliknij </a:t>
            </a:r>
            <a:r>
              <a:rPr b="1" lang="en-US" sz="1600" spc="-1" strike="noStrike">
                <a:solidFill>
                  <a:srgbClr val="ff3399"/>
                </a:solidFill>
                <a:latin typeface="Arial Narrow"/>
              </a:rPr>
              <a:t>wewnątrz</a:t>
            </a:r>
            <a:r>
              <a:rPr b="1" lang="en-US" sz="1600" spc="-1" strike="noStrike">
                <a:solidFill>
                  <a:srgbClr val="009999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9999"/>
                </a:solidFill>
                <a:latin typeface="Arial Narrow"/>
              </a:rPr>
              <a:t>zielonego pola powrotu.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594360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1675080"/>
            <a:ext cx="6019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 Narrow"/>
              </a:rPr>
              <a:t>Sprawdźcie jak opanowaliście zagadnienia omawiane na zajęciach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5335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 teraz mała niespodzianka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3880" y="2513520"/>
            <a:ext cx="662940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Rozwiązując test sprawdzający  wykonany w arkuszu kalkulacyjnym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76520" y="3503880"/>
            <a:ext cx="5562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 Narrow"/>
              </a:rPr>
              <a:t>Za każde poprawne ustalenie kolejności przejazdu przez skrzyżowanie otrzymacie 2 punkty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4266360"/>
            <a:ext cx="533376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Za rozwiązanie innych pytań po 1 punkcie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57400" y="4952160"/>
            <a:ext cx="541008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Powodzenia i do pracy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5662440"/>
            <a:ext cx="5181840" cy="433440"/>
          </a:xfrm>
          <a:prstGeom prst="rect">
            <a:avLst/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66"/>
                </a:solidFill>
                <a:uFillTx/>
                <a:latin typeface="Arial Narrow"/>
                <a:hlinkClick r:id="rId1"/>
              </a:rPr>
              <a:t>Test sprawdzający - kliknij tu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520" y="5791320"/>
            <a:ext cx="1371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cc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6290280"/>
            <a:ext cx="37339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 Narrow"/>
              </a:rPr>
              <a:t>Koniec prezentacji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42840" y="2133720"/>
            <a:ext cx="5715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 nie jest to spowodowane tym, iż przejeżdżają przez nie samochody bardzo, bardzo duże ale......?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3809880"/>
            <a:ext cx="4343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tym, iż kolejność przejazdu nie jest ustalana przez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znaki drogowe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8" name="A-7" descr=""/>
          <p:cNvPicPr/>
          <p:nvPr/>
        </p:nvPicPr>
        <p:blipFill>
          <a:blip r:embed="rId1"/>
          <a:stretch/>
        </p:blipFill>
        <p:spPr>
          <a:xfrm>
            <a:off x="1828800" y="5105520"/>
            <a:ext cx="1143000" cy="1028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971800" y="4038480"/>
            <a:ext cx="95256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90920" y="838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Oczywiście, iż na skrzyżowaniu 1!!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6324480" y="5410080"/>
            <a:ext cx="1067040" cy="838440"/>
          </a:xfrm>
          <a:custGeom>
            <a:avLst/>
            <a:gdLst>
              <a:gd name="textAreaLeft" fmla="*/ 54360 w 1067040"/>
              <a:gd name="textAreaRight" fmla="*/ 1012680 w 10670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6087" y="1400"/>
                </a:lnTo>
                <a:lnTo>
                  <a:pt x="1400" y="1400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6087" y="20200"/>
                </a:lnTo>
                <a:lnTo>
                  <a:pt x="26087" y="1400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7" y="20200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7" h="21600">
                <a:moveTo>
                  <a:pt x="1374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487" h="21600">
                <a:moveTo>
                  <a:pt x="1374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487" h="21600">
                <a:moveTo>
                  <a:pt x="11167" y="8224"/>
                </a:moveTo>
                <a:lnTo>
                  <a:pt x="15031" y="8224"/>
                </a:lnTo>
                <a:lnTo>
                  <a:pt x="15031" y="15221"/>
                </a:lnTo>
                <a:lnTo>
                  <a:pt x="16320" y="15221"/>
                </a:lnTo>
                <a:lnTo>
                  <a:pt x="16320" y="16144"/>
                </a:lnTo>
                <a:lnTo>
                  <a:pt x="11167" y="16144"/>
                </a:lnTo>
                <a:lnTo>
                  <a:pt x="11167" y="15221"/>
                </a:lnTo>
                <a:lnTo>
                  <a:pt x="12455" y="15221"/>
                </a:lnTo>
                <a:lnTo>
                  <a:pt x="12455" y="9129"/>
                </a:lnTo>
                <a:lnTo>
                  <a:pt x="11167" y="9129"/>
                </a:lnTo>
                <a:close/>
              </a:path>
            </a:pathLst>
          </a:custGeom>
          <a:gradFill rotWithShape="0">
            <a:gsLst>
              <a:gs pos="0">
                <a:srgbClr val="5e7575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5640840"/>
            <a:ext cx="144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 Narrow"/>
              </a:rPr>
              <a:t>Podział znaków drogowyc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6205680"/>
            <a:ext cx="16002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6699"/>
                </a:solidFill>
                <a:latin typeface="Arial Narrow"/>
              </a:rPr>
              <a:t>Klikaj tu aby pokazać zawartość slajdu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6248160"/>
            <a:ext cx="914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Czy każdy znak drogowy jest związany  z ustaleniem kolejności przejazdu przez skrzyżowanie?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952560" cy="857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352680" y="3276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781680" y="18288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019920" y="30481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4800600" y="3581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391520" y="30481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5638680" y="1600200"/>
            <a:ext cx="952560" cy="115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666880" y="472428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Oczywiście, że nie - te które spełniają to zadanie są bardzo nieliczne i bardzo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charakterystyczne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96080" y="609588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631512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8487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     </a:t>
            </a:r>
            <a:r>
              <a:rPr b="0" lang="en-US" sz="2800" spc="-1" strike="noStrike">
                <a:solidFill>
                  <a:srgbClr val="336699"/>
                </a:solidFill>
                <a:latin typeface="Bookman Old Style"/>
              </a:rPr>
              <a:t>Do podstawowych znaków ustalających kolejność przejazdu przez skrzyżowanie należą: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952560" cy="857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438280" y="2057400"/>
            <a:ext cx="952560" cy="942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733920" y="2362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Droga z pierwszeństwem przejazdu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5053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Ustąp pierwszeństwa przejazdu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505320" y="4572000"/>
            <a:ext cx="952560" cy="933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952880" y="48769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top – zatrzymaj si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556272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zym różnią się one w porównaniu z innymi znakami drogowymi?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617508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46740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952560" cy="942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429000" y="14479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Droga z pierwszeństwem przejazdu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jest znakiem informacyjnym, zaś pozostałe znaki tej grupy wyglądają następująco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76720" y="3581280"/>
            <a:ext cx="952560" cy="1152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858000" y="3200400"/>
            <a:ext cx="952560" cy="1152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181480" y="3048120"/>
            <a:ext cx="952560" cy="1066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3886200" y="5257800"/>
            <a:ext cx="952560" cy="1152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410080" y="4495680"/>
            <a:ext cx="952560" cy="1152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7010280" y="4800600"/>
            <a:ext cx="952560" cy="1152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352680" y="3808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Macie rację – kształtem.  Porównajcie je!!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609876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631512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952560" cy="857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352680" y="106668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Ustąp pierwszeństwa przejazdu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to znak ostrzegawczy, zaś pozostałe znaki tej grupy wyglądają następująco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048120" y="373392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952880" y="388620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4191120" y="533412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6553080" y="525780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6781680" y="365760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3962520" y="2514600"/>
            <a:ext cx="952560" cy="85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001000" y="609876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631512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68580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Bookman Old Style"/>
              </a:rPr>
              <a:t>Pozostał jeszcze znak: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952560" cy="933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505320" y="16002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top – zatrzymaj się, który jes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znakiem zakazu, zaś pozostałe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znaki tej grupy wyglądają następująco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095720" y="2952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410080" y="37339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3581280" y="43434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6629400" y="48769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4952880" y="53341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6705720" y="29718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696080" y="602280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631512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 Narrow"/>
              </a:rPr>
              <a:t>Ustalmy sobie teraz kolejność przejazdu na skrzyżowaniu oznakowanym.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81120" y="342864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astępnym jest pojazd 1,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który jest po prawej stronie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jazdu 2 gdy ten skręca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2" name="014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419720" cy="41907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105520" y="213372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ierwszy pojedzie pojazd 3 gdyż jest na drodze                   z pierwszeństwem przejazdu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4876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ako ostatni skrzyżowanie opuści pojazd 2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6022800"/>
            <a:ext cx="914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 Narrow"/>
              </a:rPr>
              <a:t>Następny slajd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6315120"/>
            <a:ext cx="2209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99"/>
                </a:solidFill>
                <a:latin typeface="Arial Narrow"/>
              </a:rPr>
              <a:t>Klikaj tu aby pokazać zawartość slajdu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3:12:39Z</dcterms:created>
  <dc:creator>CDE</dc:creator>
  <dc:description/>
  <dc:language>en-US</dc:language>
  <cp:lastModifiedBy>WOM Gorzów Wlkp.</cp:lastModifiedBy>
  <dcterms:modified xsi:type="dcterms:W3CDTF">2002-06-20T10:45:54Z</dcterms:modified>
  <cp:revision>105</cp:revision>
  <dc:subject/>
  <dc:title>Znaki drogowe ustalające kolejność przejazdu przez skrzyżowanie</dc:title>
</cp:coreProperties>
</file>